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65A-896F-4A18-83BB-6AAD2A9C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427-3D34-4208-9D86-C28026F5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045-B770-491E-9209-713C7384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E6D-01FD-49E9-A3F8-2E9CF45A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BD09-EA90-46C7-AAB3-BFC5302C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9210-4B52-4A84-9BDB-EA61C03F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CB1C-A152-4BDD-A408-D46FD30E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AA4C-ECB0-41F8-B1D9-DF24D533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2916-9D55-4943-9A50-3ED189DE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52E3-CF0B-4B95-9020-D9A01875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1F24-31B2-4BB6-9C0A-39C02B41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BF9-6D9E-4A44-A552-96165A56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5729-C07A-4DBB-B2C8-30E4FC23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F5E8-CF74-48F9-84E6-88845EC9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8C9D-7FCC-4E4A-A61C-8F8A334F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DB9A-C946-4360-8066-322995ED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AC9B-9A87-4EA5-9A4C-8B500C98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BB5-C308-4281-BF0A-DD8BA4D9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310-3811-4DA9-82F9-B336B905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218F-6C2A-4103-A943-5CFB821C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872-5AB7-4F51-9C68-9BF4717C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186-88BB-41EB-9A9E-95699A96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E52-C1DA-4033-8480-4E296EEF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33A-A5AB-4C22-9978-FAE614D4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724A-A917-4691-A3A5-836943092AB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A258-3AF2-4A6A-BC6A-7573CD25683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Divisive Politics of Slave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0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tion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Differences Between the North and the South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3" name="800px-US_map_1864_Civil_War_divisions.svg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952880" cy="3108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486400" y="1371600"/>
            <a:ext cx="36576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rth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ousands of Immigrants have entered the Nort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ppose slavery because it means less work for immigrants and made immigrants look bad by doing a “slave’s job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urely Industr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st “Modern” pace with growth of Railroads and moving wes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fferences Cont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uth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sn’t changed since the beginning of Americ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ill the same slow, agricultural so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immigrants because they are not treated well and don’t want to do work a slave do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uth relies completely on their slav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US_map-South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9546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ilmot Provi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2749680"/>
            <a:ext cx="38098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mendment proposed by Pennsylvanian Democrat David Wilmo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t said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ither Slavery nor involuntary servitude shall every exist in any territory the United States might acquire as a result of the war with Mexic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1654200"/>
            <a:ext cx="36576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Controvers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outhern states took this as the north trying to tip congress in their favor by getting rid of a possible slave sta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northern states were angry at the south for refusing to allow roads and canals built and were afraid of a slave-state dominating cong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aa_polk_wilmot_2_m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aa_polk_wilmot_1_m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 Threat of Sece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lifornia enters U.S as a free state by own choi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uses distrust in Congr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orth wants Abolition of slavery in District of Columb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orth also wants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Popular Sovereignty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the right of residents of a territory to vote for or against slavery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) for new territori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outh wants Fugitive Slave Act of 1793 to be follow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secession-movement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405320" cy="2876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95680" y="54100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ecessio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e formal withdrawal of a state from the Un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y’s Compromise of 1850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685800"/>
            <a:ext cx="6858000" cy="6172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62120"/>
            <a:ext cx="6553080" cy="6095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14300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What the South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Wa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914400"/>
            <a:ext cx="3048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What the North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Wa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16765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563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la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6576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North to enforce the Fugitive Slave A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4382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lifornia as a slave st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5105520"/>
            <a:ext cx="236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bolition of slavery in the district of Columb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18288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lifornia be allowed to enter as a free sta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3200400"/>
            <a:ext cx="243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tah and New Mexico be allowed to decide for themselves about slave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1066680"/>
            <a:ext cx="2209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mpromi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19051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lifornia admitted as a free sta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590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tah and New Mexico allowed to decide for themselv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3352680"/>
            <a:ext cx="41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exas is paid $10 million by Fed. Gov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03848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ale of slaves banned in District of Columbia but slavery is allow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502920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ugitive slave act modified so free states must help capture runaway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sults of Propos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143000"/>
            <a:ext cx="33530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nate rejected propos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ay gives u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ephen A. Douglas (Illinois) takes o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poses all parts of the Compromise one at a time instead of all at o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ident Taylor Dies unexpected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llard Fillmore takes his pla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12952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ident Fillmore supports compromise and it is finally passed through negations with the so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compromise" descr=""/>
          <p:cNvPicPr/>
          <p:nvPr/>
        </p:nvPicPr>
        <p:blipFill>
          <a:blip r:embed="rId1"/>
          <a:stretch/>
        </p:blipFill>
        <p:spPr>
          <a:xfrm>
            <a:off x="4800600" y="3048120"/>
            <a:ext cx="38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20:33:56Z</dcterms:created>
  <dc:creator>Meg A Snyder</dc:creator>
  <dc:description/>
  <dc:language>en-US</dc:language>
  <cp:lastModifiedBy>Meg A Snyder</cp:lastModifiedBy>
  <dcterms:modified xsi:type="dcterms:W3CDTF">2008-05-02T01:29:54Z</dcterms:modified>
  <cp:revision>7</cp:revision>
  <dc:subject/>
  <dc:title>The Divisive Politics of Slavery</dc:title>
</cp:coreProperties>
</file>